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2CB-7DC0-4BCA-89E7-AEB6EE71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FB1-BA02-4DF2-9B2F-2454034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BBA-8DC2-4460-9DE6-898DB3C2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1E9-0BE7-4B6A-8B92-2B38FC80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BDA-89F4-4111-9A55-F64E0EA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29D-C372-47E5-AE94-166B611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9CA-A911-490A-9574-EFC4C85A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9A5-5B61-4377-BA04-D636B23B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1E5-4606-40A3-B1FD-7C89E541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DF0-F13E-4E83-B2B1-00D37CF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3F8-DB5F-4C3C-9C64-419486D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11B-007C-4831-8CEA-CE98971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E87-5B70-42A3-BFDC-68C5A118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tacles to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ion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19920" cy="47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tchstick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9000" y="712800"/>
            <a:ext cx="6959520" cy="543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ndle-Mount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1000" y="712800"/>
            <a:ext cx="6095880" cy="54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94240" cy="59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Decisions and Forming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d Misusing Heu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presentativeness Heu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ailability Heu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ing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lief Perseverance Phenome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loring iin Modules, Modul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9:06:44Z</dcterms:created>
  <dc:creator>bfw</dc:creator>
  <dc:description/>
  <dc:language>en-US</dc:language>
  <cp:lastModifiedBy>BFW</cp:lastModifiedBy>
  <dcterms:modified xsi:type="dcterms:W3CDTF">2003-03-12T21:31:27Z</dcterms:modified>
  <cp:revision>6</cp:revision>
  <dc:subject/>
  <dc:title>No Slide Title</dc:title>
</cp:coreProperties>
</file>